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1.pct" ContentType="image/x-pict"/>
  <Override PartName="/ppt/media/image13.png" ContentType="image/png"/>
  <Override PartName="/ppt/media/image10.pct" ContentType="image/x-pict"/>
  <Override PartName="/ppt/media/image6.jpeg" ContentType="image/jpeg"/>
  <Override PartName="/ppt/media/image5.png" ContentType="image/png"/>
  <Override PartName="/ppt/media/image8.jpeg" ContentType="image/jpeg"/>
  <Override PartName="/ppt/media/Pig.wav" ContentType="audio/x-wav"/>
  <Override PartName="/ppt/media/image7.png" ContentType="image/png"/>
  <Override PartName="/ppt/media/image21.png" ContentType="image/png"/>
  <Override PartName="/ppt/media/image1.pct" ContentType="image/x-pict"/>
  <Override PartName="/ppt/media/image20.jpeg" ContentType="image/jpeg"/>
  <Override PartName="/ppt/media/image18.png" ContentType="image/png"/>
  <Override PartName="/ppt/media/image15.pct" ContentType="image/x-pict"/>
  <Override PartName="/ppt/media/image1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9CE3-4DE3-4099-8BAE-957AD60C3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ct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5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8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81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4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7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90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3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6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299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302" name="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5" name="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3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97720" y="438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6720" y="3457440"/>
            <a:ext cx="167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twic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3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6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29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32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5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8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41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4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7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50" name="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3" name="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61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7600" y="3303720"/>
            <a:ext cx="1807560" cy="11847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95920" y="46587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69" name="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72" name="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3" name="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7" name="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8" name="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82" name="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3" name="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5" name="" descr="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7" name="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8" name="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0" name="" descr="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92" name="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3" name="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7" name="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1" name="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7364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582480" y="1371600"/>
            <a:ext cx="3810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H="1">
            <a:off x="1617840" y="5364000"/>
            <a:ext cx="2433600" cy="1430640"/>
          </a:xfrm>
          <a:prstGeom prst="wedgeEllipseCallout">
            <a:avLst>
              <a:gd name="adj1" fmla="val 72370"/>
              <a:gd name="adj2" fmla="val -1281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11" name="" descr="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12" name="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7" name="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3" name="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5" name="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8" name="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41" name="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7" name="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58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1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1600" y="6329520"/>
            <a:ext cx="467820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7" name="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0" b="347576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1" name="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6" name="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8" name="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331720" y="4218120"/>
            <a:ext cx="6704280" cy="2656800"/>
            <a:chOff x="2331720" y="4218120"/>
            <a:chExt cx="6704280" cy="26568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67520" y="421812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35040" y="459756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7320" y="4705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20720" y="445788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15000" y="523404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7960" y="497844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11800" y="479268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1240" y="501012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531200" y="505296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73800" y="515952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81760" y="540072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7440" y="632772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14680" y="483696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0" name=""/>
            <p:cNvSpPr/>
            <p:nvPr/>
          </p:nvSpPr>
          <p:spPr>
            <a:xfrm>
              <a:off x="3691080" y="584064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3" name="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6400" y="1260360"/>
            <a:ext cx="80028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ree in matrix &amp; membrane-bound 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2" name="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3"/>
          <a:srcRect l="6750" t="24000" r="2250" b="24000"/>
          <a:stretch/>
        </p:blipFill>
        <p:spPr>
          <a:xfrm>
            <a:off x="5708520" y="1657440"/>
            <a:ext cx="3259440" cy="13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04920" y="6238800"/>
            <a:ext cx="2384280" cy="5886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260819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rcRect l="476280" t="0" r="0" b="382707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1600" y="2341440"/>
            <a:ext cx="1503360" cy="4222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bacteria</a:t>
            </a: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2" name="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6" name="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2" name="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6" name="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l matri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7" name="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3720" y="2266200"/>
            <a:ext cx="1400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30000" y="4987080"/>
            <a:ext cx="1370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7680" y="4185360"/>
            <a:ext cx="1908360" cy="3715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72080" y="3503520"/>
            <a:ext cx="731880" cy="6476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71560" y="4399560"/>
            <a:ext cx="186228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9600" y="4177440"/>
            <a:ext cx="195444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8" name="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81640" y="5758920"/>
            <a:ext cx="7030440" cy="947520"/>
            <a:chOff x="881640" y="5758920"/>
            <a:chExt cx="7030440" cy="947520"/>
          </a:xfrm>
        </p:grpSpPr>
        <p:sp>
          <p:nvSpPr>
            <p:cNvPr id="263" name=""/>
            <p:cNvSpPr/>
            <p:nvPr/>
          </p:nvSpPr>
          <p:spPr>
            <a:xfrm>
              <a:off x="8816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951280" y="3049560"/>
            <a:ext cx="531720" cy="820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436920"/>
            <a:ext cx="48052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512120" y="906480"/>
            <a:ext cx="1454040" cy="2057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12-21T05:51:06Z</cp:lastPrinted>
  <dcterms:modified xsi:type="dcterms:W3CDTF">2009-01-11T21:55:51Z</dcterms:modified>
  <cp:revision>78</cp:revision>
  <dc:subject/>
  <dc:title> Cellular Respiration   Oxidation of Pyruvate   Krebs Cycle</dc:title>
</cp:coreProperties>
</file>